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744-7257-442A-8532-E12EC7CC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96D-576D-41FB-84B8-65C047B0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C4F-EA59-4B3F-B15B-4BBF89A1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92E-9354-49C9-BFE6-CB43C8A8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165-FDEA-44DA-B904-658CACB0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309-B4CC-46D6-8F1E-92352A8E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5D7-195F-4D4F-8306-A770D663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DC0-0A80-4772-8642-E4FF7987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EDD-6E33-441F-B378-511F5B91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F01-FB01-4860-9170-57976734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6B8-33CE-4BE9-8863-89B4122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291-B1E6-4E0A-9F09-75B12AFA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6AC7-8A58-4E2A-ACEF-68266AE49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sson  21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Year Is I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82440" y="3038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五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1600200"/>
            <a:ext cx="7162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lo, My name is ______. I am ___ years old . My  year is the year of the 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my friend .His/Her name is ___.He/She  is ___ years old. His/Her year is the year of _____.He/She has ____. He/She likes to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9907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04480" y="304920"/>
            <a:ext cx="45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sten an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4495680"/>
            <a:ext cx="92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. Is Danny’s year the year of the ca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How many animals are the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0000" y="3124080"/>
            <a:ext cx="50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.What  is Li Ming‘s yea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38280" y="1981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le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505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ct the story with your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971800" y="1143000"/>
            <a:ext cx="289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5146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Ask your family members' years and write it down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99400" y="1523880"/>
            <a:ext cx="512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the animals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China, years have names. The names are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63560" cy="2019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705720" y="2895480"/>
            <a:ext cx="2171520" cy="1803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238880" y="4572000"/>
            <a:ext cx="151128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010280" y="762120"/>
            <a:ext cx="1359000" cy="2082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286000" y="990720"/>
            <a:ext cx="2374920" cy="204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85800" y="2971800"/>
            <a:ext cx="1866960" cy="1930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2666880" y="4800600"/>
            <a:ext cx="176544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572000" y="3048120"/>
            <a:ext cx="1968480" cy="1650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228600" y="5029200"/>
            <a:ext cx="237492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2514600" y="2971800"/>
            <a:ext cx="1866960" cy="203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4495680" y="5181480"/>
            <a:ext cx="237492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5029200" y="990720"/>
            <a:ext cx="13590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51040" y="304920"/>
            <a:ext cx="556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ch a movie and order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760" y="6426360"/>
            <a:ext cx="1881360" cy="365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rcRect l="0" t="0" r="0" b="765"/>
          <a:stretch/>
        </p:blipFill>
        <p:spPr>
          <a:xfrm>
            <a:off x="914400" y="1143000"/>
            <a:ext cx="7229520" cy="4952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15880" y="333360"/>
            <a:ext cx="24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m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83720" y="1722600"/>
            <a:ext cx="469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What is your yea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31240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___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1240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y year is the year of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66360" y="3048120"/>
            <a:ext cx="10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58520" y="1828800"/>
            <a:ext cx="51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What is his/her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971800"/>
            <a:ext cx="92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s/Her year is the year of the 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67120" y="533520"/>
            <a:ext cx="264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ir W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362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k and answer with your fri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25920" y="0"/>
            <a:ext cx="293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1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your year? What about your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2286000"/>
          <a:ext cx="7467480" cy="373392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s of the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6T01:53:51Z</dcterms:created>
  <dc:creator>dell</dc:creator>
  <dc:description/>
  <dc:language>en-US</dc:language>
  <cp:lastModifiedBy>dell</cp:lastModifiedBy>
  <dcterms:modified xsi:type="dcterms:W3CDTF">2015-06-26T02:14:1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